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9.wmf" ContentType="image/x-wmf"/>
  <Override PartName="/ppt/media/image6.gif" ContentType="image/gif"/>
  <Override PartName="/ppt/media/image10.wmf" ContentType="image/x-wmf"/>
  <Override PartName="/ppt/media/image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6.png" ContentType="image/png"/>
  <Override PartName="/ppt/media/image15.gif" ContentType="image/gif"/>
  <Override PartName="/ppt/media/image17.png" ContentType="image/png"/>
  <Override PartName="/ppt/media/image14.gif" ContentType="image/gif"/>
  <Override PartName="/ppt/media/image2.jpeg" ContentType="image/jpe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53D6-C9A4-4BC0-B372-90BF86242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82FF-A9FB-496F-B7D5-3B79E7E3D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CAAC-713A-4A0C-B07E-B9A3948AD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A7D7-729A-456F-910E-132D987E3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E2A3-9343-4B75-86F7-370A8AD49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9DC7-8E8D-46DD-9618-CFDE8C238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6414-918A-4CC7-B72D-D9ADC9480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C390-F74F-4796-92B8-B0E9A93BF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C5B1-14FB-46AB-B12E-75A9E32F7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EA1B-7535-4B16-AECA-22EE17757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A07C-B4BB-4EE6-8761-F6FD05CBA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9EF8-2B6F-4C04-AFEB-1AD2DAED2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076E-8D7E-4858-848D-B46B8E437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6C7-474F-441A-BA5A-87DA5377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38D-08C4-4406-9385-CAFD1363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F79-CE2A-49B1-8732-539F65E9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0208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0416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0208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0416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EC3-0AF8-4344-8249-2B96237C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4AAD-5D7B-451C-9FAF-46848389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63EE-DB16-43D6-9202-DDB0157D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A7CE-53B8-49D9-9758-35436DBC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22BA-0953-4A13-90E2-CC096FF3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0A65-1AAC-498B-8DB8-A813EF33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9C2C-8943-4517-8328-3E1E1FDA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313C-0E51-41A6-A42B-4F2E9817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1D3F-99AD-44B3-981C-395B4190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37DA-196F-4939-9D70-C483CAAD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7341-5137-4D92-B163-C94CCF67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E4B4-1719-4B94-82AD-A5741C49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D04D-A2F5-4163-9939-647C0886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0208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0416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0208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0416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6229-6AD6-47C1-A724-04E9CBED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643-C3FB-4706-8FBE-487E76C5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753-58C0-4FFE-B610-7E8E5DDE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C24-0991-4124-BCCE-7763DD34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AEF2-32AD-44B9-A824-8D009AEE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B79-D9CA-4160-BB09-F77ED686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CDE0-B112-423F-B16A-0B935639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A3D-69BA-46AB-9A50-ADF84B62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4DC0-E70A-45D9-AE0E-4B229E73B628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4989-E8DD-417C-AC24-6DF6908E6C65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87b7"/>
                </a:solidFill>
                <a:latin typeface="Impact"/>
              </a:rPr>
              <a:t>What is electricity?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2666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D43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ience Conten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. L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Conductor &amp; Insulator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37767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nductor is an object that allows electrical charges to flow easily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y stated, most metals are good electrical conducto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919680" y="762120"/>
            <a:ext cx="3776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nonconductor is an object that doesn’t allow electrical charges to flo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: glasses, fabric, wood, rubber, plastic, pure water, etc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conductor_1bs"/>
          <p:cNvPicPr/>
          <p:nvPr/>
        </p:nvPicPr>
        <p:blipFill>
          <a:blip r:embed="rId1"/>
          <a:stretch/>
        </p:blipFill>
        <p:spPr>
          <a:xfrm>
            <a:off x="228600" y="4419720"/>
            <a:ext cx="3200400" cy="1900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MCPE03308_0000[1]"/>
          <p:cNvPicPr/>
          <p:nvPr/>
        </p:nvPicPr>
        <p:blipFill>
          <a:blip r:embed="rId2"/>
          <a:stretch/>
        </p:blipFill>
        <p:spPr>
          <a:xfrm>
            <a:off x="3809880" y="4952880"/>
            <a:ext cx="1600200" cy="1314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MCj04240680000[1]"/>
          <p:cNvPicPr/>
          <p:nvPr/>
        </p:nvPicPr>
        <p:blipFill>
          <a:blip r:embed="rId3"/>
          <a:stretch/>
        </p:blipFill>
        <p:spPr>
          <a:xfrm>
            <a:off x="6477120" y="4343400"/>
            <a:ext cx="1331640" cy="135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MCj02809750000[1]"/>
          <p:cNvPicPr/>
          <p:nvPr/>
        </p:nvPicPr>
        <p:blipFill>
          <a:blip r:embed="rId4"/>
          <a:stretch/>
        </p:blipFill>
        <p:spPr>
          <a:xfrm>
            <a:off x="7010280" y="5470560"/>
            <a:ext cx="1587600" cy="1387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MCSY00550_0000[1]"/>
          <p:cNvPicPr/>
          <p:nvPr/>
        </p:nvPicPr>
        <p:blipFill>
          <a:blip r:embed="rId5"/>
          <a:stretch/>
        </p:blipFill>
        <p:spPr>
          <a:xfrm>
            <a:off x="5486400" y="4876920"/>
            <a:ext cx="102384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Batteries produce electricity.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e electricity using two different metals in a chemical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battery"/>
          <p:cNvPicPr/>
          <p:nvPr/>
        </p:nvPicPr>
        <p:blipFill>
          <a:blip r:embed="rId1"/>
          <a:stretch/>
        </p:blipFill>
        <p:spPr>
          <a:xfrm>
            <a:off x="1066680" y="2438280"/>
            <a:ext cx="579132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Electricity travels in a circuit.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icity travels in closed loops, or circuits (from the word circle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circuit is open, the electricity can’t fl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icity does work! (lighting, making pictures and sound, moving, etc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LightBulbs_small"/>
          <p:cNvPicPr/>
          <p:nvPr/>
        </p:nvPicPr>
        <p:blipFill>
          <a:blip r:embed="rId1"/>
          <a:stretch/>
        </p:blipFill>
        <p:spPr>
          <a:xfrm>
            <a:off x="1523880" y="4114800"/>
            <a:ext cx="4953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Types of Circuits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37767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circu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ll their components wired so that current follow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gle p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rough the circuit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919680" y="762120"/>
            <a:ext cx="3776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closed circuit, in which the current divides into two or more paths before recombining to complete the circuit. They are wired in such a way so that if one part of the circuit is broken, the whole circuit is still closed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series circuit"/>
          <p:cNvPicPr/>
          <p:nvPr/>
        </p:nvPicPr>
        <p:blipFill>
          <a:blip r:embed="rId1"/>
          <a:stretch/>
        </p:blipFill>
        <p:spPr>
          <a:xfrm>
            <a:off x="457200" y="2819520"/>
            <a:ext cx="2819520" cy="198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parallel circuit"/>
          <p:cNvPicPr/>
          <p:nvPr/>
        </p:nvPicPr>
        <p:blipFill>
          <a:blip r:embed="rId2"/>
          <a:stretch/>
        </p:blipFill>
        <p:spPr>
          <a:xfrm>
            <a:off x="3581280" y="495288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series c"/>
          <p:cNvPicPr/>
          <p:nvPr/>
        </p:nvPicPr>
        <p:blipFill>
          <a:blip r:embed="rId3"/>
          <a:stretch/>
        </p:blipFill>
        <p:spPr>
          <a:xfrm>
            <a:off x="762120" y="5181480"/>
            <a:ext cx="2209680" cy="1343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parallel"/>
          <p:cNvPicPr/>
          <p:nvPr/>
        </p:nvPicPr>
        <p:blipFill>
          <a:blip r:embed="rId4"/>
          <a:stretch/>
        </p:blipFill>
        <p:spPr>
          <a:xfrm>
            <a:off x="5791320" y="5029200"/>
            <a:ext cx="19810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We use electricity every day!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37767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icity does a lot of work for u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lights our homes, warms and cools and helps us clean something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MCj02790300000[1]"/>
          <p:cNvPicPr/>
          <p:nvPr/>
        </p:nvPicPr>
        <p:blipFill>
          <a:blip r:embed="rId1"/>
          <a:stretch/>
        </p:blipFill>
        <p:spPr>
          <a:xfrm>
            <a:off x="2133720" y="3733920"/>
            <a:ext cx="1709640" cy="2189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MCj00854300000[1]"/>
          <p:cNvPicPr/>
          <p:nvPr/>
        </p:nvPicPr>
        <p:blipFill>
          <a:blip r:embed="rId2"/>
          <a:stretch/>
        </p:blipFill>
        <p:spPr>
          <a:xfrm>
            <a:off x="990720" y="3886200"/>
            <a:ext cx="1092240" cy="2209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MCj03887520000[1]"/>
          <p:cNvPicPr/>
          <p:nvPr/>
        </p:nvPicPr>
        <p:blipFill>
          <a:blip r:embed="rId3"/>
          <a:stretch/>
        </p:blipFill>
        <p:spPr>
          <a:xfrm>
            <a:off x="5715000" y="5257800"/>
            <a:ext cx="1709640" cy="1079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MCj02803610000[1]"/>
          <p:cNvPicPr/>
          <p:nvPr/>
        </p:nvPicPr>
        <p:blipFill>
          <a:blip r:embed="rId4"/>
          <a:stretch/>
        </p:blipFill>
        <p:spPr>
          <a:xfrm>
            <a:off x="3733920" y="1905120"/>
            <a:ext cx="1798560" cy="1638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MCj03969140000[1]"/>
          <p:cNvPicPr/>
          <p:nvPr/>
        </p:nvPicPr>
        <p:blipFill>
          <a:blip r:embed="rId5"/>
          <a:stretch/>
        </p:blipFill>
        <p:spPr>
          <a:xfrm>
            <a:off x="5791320" y="1447920"/>
            <a:ext cx="132228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MCj04041210000[1]"/>
          <p:cNvPicPr/>
          <p:nvPr/>
        </p:nvPicPr>
        <p:blipFill>
          <a:blip r:embed="rId6"/>
          <a:stretch/>
        </p:blipFill>
        <p:spPr>
          <a:xfrm>
            <a:off x="4114800" y="39625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MCj02342890000[1]"/>
          <p:cNvPicPr/>
          <p:nvPr/>
        </p:nvPicPr>
        <p:blipFill>
          <a:blip r:embed="rId7"/>
          <a:stretch/>
        </p:blipFill>
        <p:spPr>
          <a:xfrm>
            <a:off x="5181480" y="3200400"/>
            <a:ext cx="2500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TEKS Alignment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ce Process Skills: All of grades in elementary sci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From K to Grade 2 basic process skills are focused in TE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From Grade 3 to Grade 5 integrated process skills are emphasized in TEKS as well as basic sk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ce concepts about Electric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Grade4, (5) and Grade5, (7) &amp; (8) in TE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What is electricity?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low of electrical power or char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sterious fo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 energy sou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lable and convenient form of energy used in the applications of heat, light, and po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Scientists who worked for electricity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jamin Franklin (170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onducting experiments to generate electric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Lighting is electric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 Edison (184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nting the light bulb and many other electric mach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kola Tesla (185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ction motors, radio-frequency wave, transmission of electrical power, and AC Electric pow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ia.doe.gov/kids/history/people/pioneers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What are atoms?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thing is made of atoms (every star, plants, animals, etc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uilding blocks of the univer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, very tiny partic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s are made of even smaller particles such as nucleus (neutron &amp; proton) and electr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ly empty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Atoms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pic>
        <p:nvPicPr>
          <p:cNvPr id="100" name="Picture 6" descr="carbon%20atom"/>
          <p:cNvPicPr/>
          <p:nvPr/>
        </p:nvPicPr>
        <p:blipFill>
          <a:blip r:embed="rId1"/>
          <a:stretch/>
        </p:blipFill>
        <p:spPr>
          <a:xfrm>
            <a:off x="0" y="762120"/>
            <a:ext cx="3048120" cy="2722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769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like the sun with the planets spinning around i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nter is called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at is made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ositive charge)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negative charge) move around the nucleus in cloud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atom"/>
          <p:cNvPicPr/>
          <p:nvPr/>
        </p:nvPicPr>
        <p:blipFill>
          <a:blip r:embed="rId2"/>
          <a:stretch/>
        </p:blipFill>
        <p:spPr>
          <a:xfrm>
            <a:off x="1523880" y="35812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Electricity is moving electrons!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Nucleus :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tons (+ Charg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Electrons (- Charg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Protons (+charge) + N Electrons (- charg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0                +         -10       =   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can move out or in easily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0                +         -8          =   +2 (positiv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0                +         -12        =   - 2 (negativ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Static Electricity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ing is electricity; It is electrons moving from one cloud to another or jumping to the gr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bunch of electrons jumped to you from another object. This kind of electricity is called static electricity (no wir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MCj03980170000[1]"/>
          <p:cNvPicPr/>
          <p:nvPr/>
        </p:nvPicPr>
        <p:blipFill>
          <a:blip r:embed="rId1"/>
          <a:stretch/>
        </p:blipFill>
        <p:spPr>
          <a:xfrm>
            <a:off x="5181480" y="1981080"/>
            <a:ext cx="14194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Electricity travels through wires.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icity moves through the wires very fast! In just one second, electricity can travel around the world seven tim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duracell"/>
          <p:cNvPicPr/>
          <p:nvPr/>
        </p:nvPicPr>
        <p:blipFill>
          <a:blip r:embed="rId1"/>
          <a:stretch/>
        </p:blipFill>
        <p:spPr>
          <a:xfrm>
            <a:off x="2590920" y="3200400"/>
            <a:ext cx="44956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1:36:45Z</dcterms:created>
  <dc:creator>Young H. Lee</dc:creator>
  <dc:description/>
  <dc:language>en-US</dc:language>
  <cp:lastModifiedBy>Your User Name</cp:lastModifiedBy>
  <dcterms:modified xsi:type="dcterms:W3CDTF">2009-09-21T21:38:37Z</dcterms:modified>
  <cp:revision>14</cp:revision>
  <dc:subject/>
  <dc:title>What is electricity?</dc:title>
</cp:coreProperties>
</file>